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B59F-51F9-4881-B74E-008F785D4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0DEA-9B4C-4C21-846F-5E7CF7061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F33B-13A3-44E3-A5B4-9D08FFB69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D409-1062-4B9B-B338-16816AB3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C313-9142-4B5A-8751-80C05D71A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A2F9-E08C-4149-92A6-11E0CFF22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961E-D30B-42A4-B33A-C8D15E5A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A945-DAE1-4188-AAAB-1B32C46F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4487-4CCB-45ED-813C-0F4D6492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2C33-75C0-4465-BE55-02FA1E1F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AB93-49B0-4382-9DB7-5E187277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FA1C-6B6B-452F-8002-417FF619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A9C5-F97E-4E2C-A989-B1A2B949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7724-CF0C-4491-BB01-B1C09688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C6E4-2C4F-4096-94B3-9A91BB798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ra Mucollar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Sara Mucoll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Sara Mucollari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Sara Mucollar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Sara Mucollari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765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Sara. Yo vivo en la ciudad de New York. Tengo 14 años. Yo tengo dos hermano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28520" y="5254560"/>
            <a:ext cx="657360" cy="94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17560" y="5254560"/>
            <a:ext cx="554040" cy="79236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28520" y="5937120"/>
            <a:ext cx="554040" cy="7984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27040" y="5254560"/>
            <a:ext cx="451080" cy="63972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562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09960" y="3273480"/>
            <a:ext cx="554040" cy="792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657600"/>
            <a:ext cx="380988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743200" y="3124080"/>
            <a:ext cx="38098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puedo comer pizza?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36880" y="4492800"/>
            <a:ext cx="650880" cy="944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0988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También, si usted venir traer                                                                                     Sara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1148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Quiero ir en el sábado?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36880" y="5175360"/>
            <a:ext cx="474480" cy="950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743200" y="45720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Dónde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424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5257800"/>
            <a:ext cx="39625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n el Papá Johns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ién quiere comer pizza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64008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7"/>
          <p:cNvSpPr/>
          <p:nvPr/>
        </p:nvSpPr>
        <p:spPr>
          <a:xfrm>
            <a:off x="2743200" y="5867280"/>
            <a:ext cx="39625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Quién yendo? Me, Sara y Rania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7"/>
          <p:cNvSpPr/>
          <p:nvPr/>
        </p:nvSpPr>
        <p:spPr>
          <a:xfrm>
            <a:off x="2743200" y="6400800"/>
            <a:ext cx="39625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i, nosotras yendo en la pizzería mañana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3:38:38Z</dcterms:created>
  <dc:creator>FriscoISD</dc:creator>
  <dc:description/>
  <dc:language>en-US</dc:language>
  <cp:lastModifiedBy>NYCDOE</cp:lastModifiedBy>
  <dcterms:modified xsi:type="dcterms:W3CDTF">2012-12-07T14:15:56Z</dcterms:modified>
  <cp:revision>105</cp:revision>
  <dc:subject/>
  <dc:title>Profile</dc:title>
</cp:coreProperties>
</file>